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69A3-E166-4427-8914-CF8754D7B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C10B-6F81-48F1-B700-E5ED4067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4223-FEDE-4DB1-B5FC-B28307175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4E21-509B-4CF5-992F-186D1C34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063C-E32E-4457-B888-36B3DFE6C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682C-3169-4849-91FE-D0DFBA6C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2CF3-50D2-4FC4-BC34-C113CEDA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A135-4EF0-494D-AA53-F912CE85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6F85-6DCB-4159-B33F-94DE404D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101E-ED42-424C-973A-F501C8A9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1038-4E35-4DD5-B7C8-2EC66946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E573-25C5-431A-B31B-A102E96D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4D07-8633-45F0-B2DD-F9617EA3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E959-82B0-4C6B-A11D-F58A3C43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9F43-C158-42BA-BAA2-3780D049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6321-762B-43F6-96B5-98DEC5F31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E7A5-507A-46A1-91A7-A63E99ABC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7982-C32B-4C8D-A222-99953BDE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0C5D-0ED6-4336-BA14-5D6C86AB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46B7-E1B5-4070-86F0-01978054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D102-EF1D-427D-A679-045462DF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CEF9-3940-4894-877C-46952D93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9EBC-70F5-4471-957F-A6418481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8E7F-E02A-46C7-8925-47BD8AAF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FD55-A977-4738-B700-73975B76AD3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1119-0139-4727-A7DF-293B30F803B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Of Mice and Men</a:t>
            </a:r>
            <a:br>
              <a:rPr sz="5400"/>
            </a:b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Big Ideas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literature is open to a reader’s interpret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nquiry/Nature of the Fiel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of us, through our own experiences, decides what value a piece of literature h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read literature to increase personal knowledge, cultural literacy, compassion, and to experience things vicarious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nduring Outcom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de a connected set of Analytical, Creative &amp; Practical Outcomes for this Big Ide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s should be able 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all various literary themes (memor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ough the use of words and illustrations, differentiate between major themes of literature (creative analytical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and classify themes across literature (memory, analytical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Include a Connected Set of Analytical, Creative &amp; Practical Outcomes for this Big Idea</a:t>
            </a:r>
            <a:br>
              <a:rPr sz="28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udents should be able to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lyze plot through characters’ relationships (analytical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ough words and pictures, show examples of cultural literacy in literature (creativ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14:59:00Z</dcterms:created>
  <dc:creator>Barbara Vogt</dc:creator>
  <dc:description/>
  <dc:language>en-US</dc:language>
  <cp:lastModifiedBy>Barbara Vogt</cp:lastModifiedBy>
  <dcterms:modified xsi:type="dcterms:W3CDTF">2012-03-30T15:17:04Z</dcterms:modified>
  <cp:revision>2</cp:revision>
  <dc:subject/>
  <dc:title>Of Mice and Men Big Ideas</dc:title>
</cp:coreProperties>
</file>